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0FA-9EB2-46AB-BB8D-7099C61A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B63-5D1B-476D-B1F2-BECEA14F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081-50B6-42D0-9E2E-809A4490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650-C51A-4616-8BA2-632CF8F4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73A3-6FDE-42FA-8A79-9EDF3C81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C90D4-6EBD-4BB2-8019-D5B7990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4A35-DF80-4575-AA16-C0DBBB6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20F76-CE3A-4D06-B7DE-A6CC1ED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6D788-3FF8-4592-A576-8AE0CD3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A597-281B-456D-941A-FBE1B4B5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D245-8703-45CB-82D5-EBA58DB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F00-265E-4E79-8A0A-EC8DC659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97BA6-F4C9-41F0-A4F7-FDEA80E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6EE50-CCC3-4B20-A4B6-B47EF99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8DF19-A863-4274-B931-47F171F7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4457B-7202-4EF1-9AEB-4B0DE07F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80C85-952F-4B2C-8AA3-50FCCDBE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2E4-79E8-4D52-B1EC-381880A4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821-4629-4D8D-B801-84EC9DE8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0ED-F19F-411A-8CD0-D796E1C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2AB-C2BA-4687-8490-37A21E65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EDC-5D91-4609-911A-233A551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9F0-4A48-415D-80C3-3467156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EFA-45F8-44FF-AF12-FC71544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376C-E549-4FDD-A2FE-50087F1F4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c9d9da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b0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c2d4d6"/>
                </a:gs>
                <a:gs pos="100000">
                  <a:srgbClr val="b0c8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b0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B6B-D8C5-43AD-9B12-CF2BF3F0B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virginia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81080" y="68580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irginia</a:t>
            </a:r>
            <a:endParaRPr b="0" lang="en-US" sz="1800" spc="1" strike="noStrike">
              <a:ln w="324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18148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0/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.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. #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505320" cy="1522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195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Name: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: Richm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Population: 7,567,4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Entered/Number: June 25 1788 #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o: Sic Semper Tyrannis (Thus always to ty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name: The old diamo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Bird: Card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Flower: American Dog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ong: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Behind Name: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124080"/>
            <a:ext cx="1955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irginia: Map and State Flag"/>
          <p:cNvPicPr/>
          <p:nvPr/>
        </p:nvPicPr>
        <p:blipFill>
          <a:blip r:embed="rId1"/>
          <a:srcRect l="15093" t="0" r="16989" b="62179"/>
          <a:stretch/>
        </p:blipFill>
        <p:spPr>
          <a:xfrm>
            <a:off x="990720" y="304920"/>
            <a:ext cx="274320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Virginia: Map and State Flag"/>
          <p:cNvPicPr/>
          <p:nvPr/>
        </p:nvPicPr>
        <p:blipFill>
          <a:blip r:embed="rId2"/>
          <a:srcRect l="0" t="41463" r="0" b="0"/>
          <a:stretch/>
        </p:blipFill>
        <p:spPr>
          <a:xfrm>
            <a:off x="4267080" y="228600"/>
            <a:ext cx="449604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2438280"/>
            <a:ext cx="7391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Quick Facts Virginia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 Sept.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ff"/>
                </a:solidFill>
                <a:uFillTx/>
                <a:latin typeface="Arial"/>
                <a:hlinkClick r:id="rId3"/>
              </a:rPr>
              <a:t>http://bensguide.gpo.gov/3-5/state/virgini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276360" cy="272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193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86400" y="1066680"/>
            <a:ext cx="2971800" cy="184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432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335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12:00Z</dcterms:created>
  <dc:creator>install</dc:creator>
  <dc:description/>
  <dc:language>en-US</dc:language>
  <cp:lastModifiedBy>install</cp:lastModifiedBy>
  <dcterms:modified xsi:type="dcterms:W3CDTF">2010-10-14T13:38:21Z</dcterms:modified>
  <cp:revision>11</cp:revision>
  <dc:subject/>
  <dc:title>Slide 1</dc:title>
</cp:coreProperties>
</file>